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93B-1F1B-44B7-B448-832CCD0FA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CD29-48AC-40DA-93BA-ACBE2DAAA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D5B-85DB-473F-9ED8-28ABE570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C87-4981-4476-872F-0340802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75A-34BA-4C08-AAA2-55D5A867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F28-9D5F-4ED1-8C13-4455F830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9197-117E-4D01-8414-4473245B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38A5-3936-4985-8C60-FAD7F660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40B2-6B36-48B2-9B2F-CBC1AC2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626F-537C-4DAD-AE5C-FDBE70CD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FC5-D270-4702-9B8E-518C8CA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54D-DF66-47C7-B3FE-BDA5D551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5D4-6670-445C-A903-4E1675E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643-AE83-49B0-A3A2-F3334E9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303-8873-44EB-BDA9-10A384D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755B-E15D-40EE-8BA8-9377961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3C02-2715-4224-8E7E-FC43267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493D-7A93-475D-A269-0B243599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786E-3839-48B9-AB18-354C9AFF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BE089-4BF7-404E-B384-3EC58D0F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2AE8E-6805-495F-9A63-9298B88D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331EE-CC32-4685-B86F-9F7BCC1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E7A2E-D47E-48A3-8582-F5FF3AC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DECE6-16D3-4ED9-B1CA-8F4ACA67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6F4-F584-47AF-8294-40BFE97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1FEE5-6FEE-4CF1-91FC-A8C80F98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DB81B-41AB-4FD2-BAF7-11ADE99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F2BD4-A9CA-41FC-AF34-8FF5B08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902E7-3336-4F35-8DE6-D66DA75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7DB32-EF74-4855-9DB4-84D7B6C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9AC67-3828-4F36-8146-9D96B9E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BB528-19F8-4E99-91C7-ACDB193F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E7DB-7DBC-42CE-9FC0-34C20514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27D7-D496-4DFE-8D24-D4E1EF77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6BA38-D9B1-4A4F-A482-0760F61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EF5-F388-476A-8008-1321DCE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667B-BD2D-48CC-83E7-5FEC0C7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7454-15E1-4DEA-BF2A-349B48D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698F-5C9B-40EF-ABCE-338BA7E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A797-4C9F-4559-8E35-403A00F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B1D3-66D0-4E91-9D6D-0779663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4776-8433-48AD-BF85-551B4D2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9A6E-40C3-4E9C-8B1C-225F3EF2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F477-0F04-43CC-ADA4-8F955B2D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B648-AA88-4C37-AD8F-4AD71ED5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D16-680A-4995-B752-A31C7C7F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997-B0D0-44E0-8CF6-0410CA0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B03-B655-4820-A246-B742DDD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6E2-62E8-4568-92EC-92BF086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664-AAD9-430F-B614-496F480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FE5-1310-4670-9A43-DE90890280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F6D-E427-494F-963F-AC458F445D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20CD-3338-402D-A816-DDE70730706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90D2-7490-4E53-A1C8-7E1EFAADBFC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итамины-друзья или враги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-142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Шувалова Наталья 233 групп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4" descr="vitamin_2.jpg"/>
          <p:cNvPicPr/>
          <p:nvPr/>
        </p:nvPicPr>
        <p:blipFill>
          <a:blip r:embed="rId1"/>
          <a:stretch/>
        </p:blipFill>
        <p:spPr>
          <a:xfrm>
            <a:off x="4429080" y="3786120"/>
            <a:ext cx="4714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Сформировать понятие о витаминах, а так же их биологическую роль в жизни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1. Сформировать понятие о  витаминах , как о биологически активных веществ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2.  Развивать познавательный интерес к изучению биологических вопросов, логическому мышлению, умения обосновывать свою точку зрения, анализировать, делать вывод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0760" indent="-320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Georgia"/>
              </a:rPr>
              <a:t>3. Научить применять теоретические знания на практике, сформировать понимание сложности влияния различных биологически активных веществ, в том числе и витаминов ,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4200" y="714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итамины участвуют во множестве биохимических реакций, выполняя каталитическую функцию в составе активных центров большого количества разнообразных ферментов либо выступая информационными регуляторными посредниками, выполняя сигнальные функции экзогенных прогормонов и гормон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ни не являются для организма поставщиком энергии и не имеют существенного пластического значения. Однако витаминам отводится важнейшая роль в обмене вещест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онцентрация витаминов в тканях и суточная потребность в них невелики, но при недостаточном поступлении витаминов в организм наступают характерные и опасные патологические измен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Большинство витаминов не синтезируются в организме человека. Поэтому они должны регулярно и в достаточном количестве поступать в организм с пищей или в виде витаминно-минеральных комплексов и пищевых добавок. Исключение составляет витамин К, достаточное количество которого в норме синтезируется в толстом кишечнике человека за счёт деятельности бактери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 нарушением поступления витаминов в организм связаны 3 принципиальных патологических состояния: недостаток витамина —гиповитаминоз, отсутствие витамина — авитаминоз, и избыток витамина — гипервитаминоз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0004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витам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греч. ἀντί — против, ла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жизнь) — группа органических соединений, подавляющих биологическую активность витамино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единения, близкие к витаминам по химическому строению, но обладающие противоположным биологическим действием. При попадании в организм антивитамины включаются вместо витаминов в реакции обмена веществ и тормозят или нарушают их нормальное течение. Это ведёт к витаминной недостаточности даже в тех случаях, когда соответствующий витамин поступает с пищей в достаточном количестве или образуется в самом организме. Антивитамины известны почти для всех витаминов. Например, антивитамином витамина B1 (тиамина) является пиритиамин, вызывающий явления полиневри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там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греч. πολύ — много, ла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жизнь) — фармакологические препараты или естественные многокомпонентные полидисперсные вещества, содержащие в своём составе комплекс витаминов и минеральные соеди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натуральным пищевым поливитамином является грудное молоко, в котором содержится ценный набор из многих эссенциальных витаминов. Для профилактики гиповитаминозов, в особенности у детей, рекомендуется использовать комплексные витаминные препараты. Поливитаминные препараты применяются не только для профилактики и лечения гиповитаминозов, но и в комплексной терапии таких расстройств питания, как гипотрофия или паратроф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 метаболизма у детей, не только поддерживающий жизнедеятельность, но и обеспечивающий рост и развитие детского организма, требует достаточного и регулярного поступления не только витаминов, но и минералов. По мнению отечественных ученых, для российских детей и подростков весьма актуально применениевитаминно-минеральных комплексов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витаминов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растворимые витамины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инол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гокальцифе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кальцифе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 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ита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астворимые витами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амин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флав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о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теновая кислота 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окс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оксаль, пиридоксамин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т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ие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кобалам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овая кислота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метионин 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оподобные вещест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менимые жирные кислоты(витамин F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нозитол (Витамин 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олин (Витамин В4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болевание, являющееся следствием длительного неполноценного питания, в котором отсутствуют какие-либо витам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ется при недостаточном поступлении вита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ываются приёмом резко повышенных доз вита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 сделать вывод о том, чт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требляют витамины в незначительном количестве, но без них невозможна нормальная работа органов нашего тела. Витамины активно влияют на обмен веществ, рост и развитие организма, его сопротивляемость к заболеванию. Они</a:t>
            </a:r>
            <a:r>
              <a:rPr b="0" i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не вырабатываются в организме человека, а создаются растениями и животными. Полное отсутствие каких-то витаминов в организме называют авитаминозом. Болезни, возникающие при недостатке витаминов в пище, называют гиповинозами, а от избытка витаминов – гипервитаминоз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офер Хоббс, Элсон Хаа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pedia.r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утс М. 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“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 в питании челове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50:17Z</dcterms:created>
  <dc:creator>Николай</dc:creator>
  <dc:description/>
  <dc:language>en-US</dc:language>
  <cp:lastModifiedBy>Николай</cp:lastModifiedBy>
  <dcterms:modified xsi:type="dcterms:W3CDTF">2011-05-23T06:23:28Z</dcterms:modified>
  <cp:revision>9</cp:revision>
  <dc:subject/>
  <dc:title>Витамины-друзья или враги?</dc:title>
</cp:coreProperties>
</file>